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536-E7FE-4908-957E-89E3E18C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5CA-C993-4730-8844-EDFD6C0F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56F-5A60-4702-BD51-BDF3D587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015-7524-4277-9AE3-D56BD01F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FE27-D7BA-4AF2-AF20-99AB6148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2440-6774-4ED2-ABBE-5E234D32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28AE-181A-4F4F-A87C-980F9DA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B2C-BFB1-41D5-92B3-1F219E39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8BD7-4A6C-4A88-90FB-AAFDC3C6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F7E1-6FB1-4C4D-979F-40DA2802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2788-13EF-4EA6-9C38-1795C28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E5A-0259-4A9C-8800-A38EE98D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28B-EC0A-4F4C-AFB4-6F1306C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C97-DFA3-42D8-8271-C9015D5F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6F73-819F-4250-86C0-D8A6FB4F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640-57B6-48BE-88A9-DB127D76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3F5D-6CD8-4C39-A632-933CA876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F69EA-5F23-4942-A702-703C8F52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222E5-EFF5-46CF-BE8F-45D63513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3B0E9-8BAA-435A-A8B8-2C22B82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D9438-754D-4E1B-8271-889F4F8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0BBA8-111F-4DCC-8BFF-E89844DF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C9A-FEDB-4091-8529-E0B875E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B7521-0E5F-49E6-B094-EF680B8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2D4FC-7084-4FD4-80AC-BC5AC91A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6D0B1-EA52-47BF-8DA5-FAA9234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64C6D-E3AE-46B9-8630-9592F1C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FBBDD-E12A-414B-819B-D743570E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532E3-114E-4BA5-8532-C16CB6FA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6838E-FF5A-4684-9B83-338F26DC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BEEF-3456-4D10-A928-4A0FE3B1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D4B2-0685-434D-9CE1-EE84290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CDE7-E352-4E7B-AB82-F70F5020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A9D-DA1C-49D5-B04A-AA105265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E3AB-1E71-4E79-BEFB-F53A32CE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BBE5A-24B4-4549-B16E-F65A54FB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3BA3-F525-49CF-ADCC-9523DD2B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6298-208F-4A28-BE32-1D40F5D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9885-5BAF-4891-83AA-0BD63C6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5C3D-FEC0-4DE6-94DF-6537DE4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3282-F5EE-4B74-AE6A-8EFB1C7D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8E8D-939E-45BA-AE03-12AD349A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DC48-CF13-4A84-8769-0DF6A1BE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4C7F3-9AF7-430C-9264-BE61F899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E8F-F575-42A6-AE57-A5C5513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4D166-C5D8-4F41-8F75-8DDAED8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B9526-AD77-440D-94EC-60AEEE26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B4249-C622-4E22-B087-0A1D5744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D56FE-7549-4440-A79F-0F305A2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BAD1B-53A8-48F6-A5F9-B2BEC48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3D398-41B9-4C3D-B63A-325625C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EED29-0B90-4421-858E-FE5CCFC3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E7151-E7B1-4ED8-B286-21DA912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39A17-4607-434C-BD05-99B96B0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4242F-989C-4155-980A-190CA623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60B-C5B8-4326-81B1-EE5FB02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000EE-1596-4B75-8E1C-1E687710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3DDAC-DCD3-4B05-B7BB-E808461F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0F305-1DE3-47BA-8E2D-9EAF6D9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911CF-EA0F-4C76-AE11-624C5F7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58B03-D76C-4F13-864B-5B963FD9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EB394-4400-4E84-9CE6-41B9355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C59FC-217B-48FA-A713-53E064B9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0B9C1-DCEB-4392-9719-A0EF6481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74BAB-C7E3-4F00-B28D-D00A1B0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3BA27-A95D-417C-AA94-2A19EF5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800-7004-4E00-8B69-BDFAD09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D32BA-EC2D-42E9-8554-9365EE3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DA868-D562-47B9-8613-33D915EB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13AAC-E700-4279-A793-148FACF6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B0446-CDA6-4DEC-A371-F34D4764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4FBE0-3D5B-4FA7-A0C2-4AEFF4EC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C609F-D8CB-4797-B509-EF5722F2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B74D9-2056-47FA-960F-2CE68F7A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D16F6-6861-420D-9AC7-257BB1C3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C95EA-1E15-44EE-9C77-1B49CD1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E1238-BBCC-48AB-A984-853E993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EB9-E404-4D9A-BE58-B2804DD8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10706-110A-4FA9-9065-2E9722B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64DD1-0074-4286-8FF0-940FF95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45DC6-894B-4214-9FD5-C4D15F2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8D73A-D5CF-4189-B41A-F245391E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9C908-C23D-4EEE-B1CE-9B9574D0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133-4D31-43DE-B713-37C2E33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4313-012F-41F3-8619-71E441069F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D9C8-1C36-4860-A45B-911FA0831A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B64-11CE-43D3-A2DA-5DAC968B57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7A01-E5E1-4B90-B8D4-AC03214085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13C-DA22-4E52-A680-C5007AC442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9318-527A-4BE0-BEB7-F973A34944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767-A6D2-4615-ABAF-1E7948ED4B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3" descr=""/>
          <p:cNvPicPr/>
          <p:nvPr/>
        </p:nvPicPr>
        <p:blipFill>
          <a:blip r:embed="rId1"/>
          <a:stretch/>
        </p:blipFill>
        <p:spPr>
          <a:xfrm>
            <a:off x="1695600" y="1212840"/>
            <a:ext cx="7186320" cy="20178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84000" y="3789000"/>
            <a:ext cx="61722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 : </a:t>
            </a:r>
            <a:br>
              <a:rPr sz="2900"/>
            </a:b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ПОЗНАКОМИТЬ С ПОНЯТИЕМ «МОДУЛЬ ЧИСЛА» И НАУЧИТЬ НАХОДИТЬ ЗНАЧЕНИЕ ВЫРАЖЕНИЙ С МОДУЛЕМ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7" descr="модуль"/>
          <p:cNvPicPr/>
          <p:nvPr/>
        </p:nvPicPr>
        <p:blipFill>
          <a:blip r:embed="rId2"/>
          <a:stretch/>
        </p:blipFill>
        <p:spPr>
          <a:xfrm>
            <a:off x="4284720" y="2492280"/>
            <a:ext cx="1966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Копия РИСУНОК 48"/>
          <p:cNvPicPr/>
          <p:nvPr/>
        </p:nvPicPr>
        <p:blipFill>
          <a:blip r:embed="rId1"/>
          <a:stretch/>
        </p:blipFill>
        <p:spPr>
          <a:xfrm>
            <a:off x="611280" y="3716280"/>
            <a:ext cx="7610400" cy="1981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равенство"/>
          <p:cNvPicPr/>
          <p:nvPr/>
        </p:nvPicPr>
        <p:blipFill>
          <a:blip r:embed="rId2"/>
          <a:stretch/>
        </p:blipFill>
        <p:spPr>
          <a:xfrm>
            <a:off x="3203640" y="260280"/>
            <a:ext cx="3063960" cy="15843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79279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Модулем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числа а называют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расстояние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в единичных отрезка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от начала координат до точки А(а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Копия РИСУНОК 48"/>
          <p:cNvPicPr/>
          <p:nvPr/>
        </p:nvPicPr>
        <p:blipFill>
          <a:blip r:embed="rId1"/>
          <a:stretch/>
        </p:blipFill>
        <p:spPr>
          <a:xfrm>
            <a:off x="179280" y="1700280"/>
            <a:ext cx="761076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324000" y="260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одуль числа 0 равен нулю :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entury Schoolbook"/>
                <a:ea typeface="Tahom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  <a:ea typeface="Tahoma"/>
              </a:rPr>
              <a:t>!!! Модуль числа не может быть отрицательным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Для положительного числа и нуля он равен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  <a:ea typeface="Tahoma"/>
              </a:rPr>
              <a:t>самому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 числу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а дл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  <a:ea typeface="Tahoma"/>
              </a:rPr>
              <a:t>отрицательного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 –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  <a:ea typeface="Tahoma"/>
              </a:rPr>
              <a:t>противоположному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ahoma"/>
              </a:rPr>
              <a:t> 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324000" y="515772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Times New Roman"/>
              </a:rPr>
              <a:t>|3 |= |-3 |=3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7"/>
          <p:cNvSpPr/>
          <p:nvPr/>
        </p:nvSpPr>
        <p:spPr>
          <a:xfrm>
            <a:off x="3924360" y="573264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e229d"/>
                </a:solidFill>
                <a:latin typeface="Times New Roman"/>
              </a:rPr>
              <a:t>|4 |= |+4 |=4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250920" y="314172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на координатной прямой , соответствующие противоположным числам , одинаково удалены от начала отсчета, поэтому модули противоположных чисел равн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l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– а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l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l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а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25056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Найти 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|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а 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|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ое число а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рицательное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ительно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|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</a:rPr>
              <a:t>а 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|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= а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а</a:t>
            </a:r>
            <a:br>
              <a:rPr sz="4000"/>
            </a:br>
            <a:br>
              <a:rPr sz="4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Стрелка вниз 4"/>
          <p:cNvSpPr/>
          <p:nvPr/>
        </p:nvSpPr>
        <p:spPr>
          <a:xfrm>
            <a:off x="4427640" y="1989000"/>
            <a:ext cx="649080" cy="79236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Прямоугольник 5" descr=""/>
          <p:cNvPicPr/>
          <p:nvPr/>
        </p:nvPicPr>
        <p:blipFill>
          <a:blip r:embed="rId1"/>
          <a:stretch/>
        </p:blipFill>
        <p:spPr>
          <a:xfrm>
            <a:off x="6480" y="182520"/>
            <a:ext cx="8918280" cy="969840"/>
          </a:xfrm>
          <a:prstGeom prst="rect">
            <a:avLst/>
          </a:prstGeom>
          <a:ln w="0">
            <a:noFill/>
          </a:ln>
        </p:spPr>
      </p:pic>
      <p:sp>
        <p:nvSpPr>
          <p:cNvPr id="365" name="Двойная стрелка влево/вверх 7"/>
          <p:cNvSpPr/>
          <p:nvPr/>
        </p:nvSpPr>
        <p:spPr>
          <a:xfrm rot="13468800">
            <a:off x="3816000" y="3249000"/>
            <a:ext cx="1917720" cy="1917720"/>
          </a:xfrm>
          <a:custGeom>
            <a:avLst/>
            <a:gdLst>
              <a:gd name="textAreaLeft" fmla="*/ 239760 w 1917720"/>
              <a:gd name="textAreaRight" fmla="*/ 1438560 w 1917720"/>
              <a:gd name="textAreaTop" fmla="*/ 1198440 h 1917720"/>
              <a:gd name="textAreaBottom" fmla="*/ 1677960 h 1917720"/>
            </a:gdLst>
            <a:ahLst/>
            <a:rect l="textAreaLeft" t="textAreaTop" r="textAreaRight" b="textAreaBottom"/>
            <a:pathLst>
              <a:path w="1917605" h="1917605">
                <a:moveTo>
                  <a:pt x="0" y="1438204"/>
                </a:moveTo>
                <a:lnTo>
                  <a:pt x="479401" y="958803"/>
                </a:lnTo>
                <a:lnTo>
                  <a:pt x="479401" y="1198503"/>
                </a:lnTo>
                <a:lnTo>
                  <a:pt x="1198503" y="1198503"/>
                </a:lnTo>
                <a:lnTo>
                  <a:pt x="1198503" y="479401"/>
                </a:lnTo>
                <a:lnTo>
                  <a:pt x="958803" y="479401"/>
                </a:lnTo>
                <a:lnTo>
                  <a:pt x="1438204" y="0"/>
                </a:lnTo>
                <a:lnTo>
                  <a:pt x="1917605" y="479401"/>
                </a:lnTo>
                <a:lnTo>
                  <a:pt x="1677904" y="479401"/>
                </a:lnTo>
                <a:lnTo>
                  <a:pt x="1677904" y="1677904"/>
                </a:lnTo>
                <a:lnTo>
                  <a:pt x="479401" y="1677904"/>
                </a:lnTo>
                <a:lnTo>
                  <a:pt x="479401" y="1917605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АЙДИТЕ МОДУЛЬ КАЖДОГО ИЗ ЧИСЕЛ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32360" y="1600200"/>
            <a:ext cx="25192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7,0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6,3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682640" y="1647360"/>
            <a:ext cx="25164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0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ПРИМЕРЫ РЕШЕНИЙ УРАВНЕНИЙ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  <a:ea typeface="Arial"/>
              </a:rPr>
              <a:t>   │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  <a:ea typeface="Arial"/>
              </a:rPr>
              <a:t>Х- 2│= 5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2341080" y="29955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43434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6588000" y="297180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4" name="Group 7"/>
          <p:cNvGrpSpPr/>
          <p:nvPr/>
        </p:nvGrpSpPr>
        <p:grpSpPr>
          <a:xfrm>
            <a:off x="1547640" y="3499560"/>
            <a:ext cx="6840720" cy="838080"/>
            <a:chOff x="1547640" y="3499560"/>
            <a:chExt cx="6840720" cy="838080"/>
          </a:xfrm>
        </p:grpSpPr>
        <p:sp>
          <p:nvSpPr>
            <p:cNvPr id="375" name="Line 8"/>
            <p:cNvSpPr/>
            <p:nvPr/>
          </p:nvSpPr>
          <p:spPr>
            <a:xfrm>
              <a:off x="1547640" y="3500280"/>
              <a:ext cx="684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6" name="Oval 9"/>
            <p:cNvSpPr/>
            <p:nvPr/>
          </p:nvSpPr>
          <p:spPr>
            <a:xfrm>
              <a:off x="4643280" y="3500280"/>
              <a:ext cx="71280" cy="7128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7" name="Oval 10"/>
            <p:cNvSpPr/>
            <p:nvPr/>
          </p:nvSpPr>
          <p:spPr>
            <a:xfrm flipH="1">
              <a:off x="6730920" y="3500280"/>
              <a:ext cx="71280" cy="7128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8" name="Oval 11"/>
            <p:cNvSpPr/>
            <p:nvPr/>
          </p:nvSpPr>
          <p:spPr>
            <a:xfrm>
              <a:off x="2555640" y="3500280"/>
              <a:ext cx="71640" cy="7128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9" name="AutoShape 12"/>
            <p:cNvSpPr/>
            <p:nvPr/>
          </p:nvSpPr>
          <p:spPr>
            <a:xfrm flipV="1" rot="5400000">
              <a:off x="3383640" y="2671200"/>
              <a:ext cx="431640" cy="208764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4360 h 2087640"/>
                <a:gd name="textAreaBottom" fmla="*/ 203328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0" name="AutoShape 13"/>
            <p:cNvSpPr/>
            <p:nvPr/>
          </p:nvSpPr>
          <p:spPr>
            <a:xfrm flipV="1" rot="5400000">
              <a:off x="5574240" y="2710800"/>
              <a:ext cx="368280" cy="2087640"/>
            </a:xfrm>
            <a:custGeom>
              <a:avLst/>
              <a:gdLst>
                <a:gd name="textAreaLeft" fmla="*/ 0 w 368280"/>
                <a:gd name="textAreaRight" fmla="*/ 132840 w 368280"/>
                <a:gd name="textAreaTop" fmla="*/ 54360 h 2087640"/>
                <a:gd name="textAreaBottom" fmla="*/ 203328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3112920" y="38779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2" name="Text Box 15"/>
            <p:cNvSpPr/>
            <p:nvPr/>
          </p:nvSpPr>
          <p:spPr>
            <a:xfrm>
              <a:off x="5632560" y="387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83" name="Text Box 16"/>
          <p:cNvSpPr/>
          <p:nvPr/>
        </p:nvSpPr>
        <p:spPr>
          <a:xfrm>
            <a:off x="1258920" y="407664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1116000" y="533412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Ответ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 = - 3  и  Х = 7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0:56:08Z</dcterms:created>
  <dc:creator>Admin</dc:creator>
  <dc:description/>
  <dc:language>en-US</dc:language>
  <cp:lastModifiedBy>Admin</cp:lastModifiedBy>
  <dcterms:modified xsi:type="dcterms:W3CDTF">2011-01-30T11:43:11Z</dcterms:modified>
  <cp:revision>8</cp:revision>
  <dc:subject/>
  <dc:title>Цель :  познакомить с понятием «Модуль числа» и научить находить значение выражений с модулем</dc:title>
</cp:coreProperties>
</file>